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775-6726-4CC2-B2D0-3DAF9033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B52-9438-49FC-881F-9872563C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7FE-44F2-4250-BB38-7A570382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E04-1ADA-4DF9-A9BE-C3BB1D90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9E79-BB85-4785-A95F-F2D67430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371A-BA41-44B2-997B-8A6961AC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415D-60F2-4A40-8B2A-3107D197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11AD-C795-44A9-B951-66742C70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0435-2EAC-43B1-B67A-D8D03086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2D68-3033-41D2-87F7-336358E9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AE25-FBE0-46AB-8A17-2ABECD8B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5C3-4974-464C-B197-EAC2B6AB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5DB5-3E98-4531-811C-E3B815BC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9A41-39AC-42B5-8FFB-CB89A3B6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BE52-5034-4F4B-9720-9D38592F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5ABC-8DC9-4CD7-BA4B-1768637E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0877-F616-4740-9E8F-C949348F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E59-DD2B-4C7A-9D6D-02E79B25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13C-EC21-4B67-8A50-15B18ED5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C8E-A9BC-42EF-9294-2F8AB201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1D0-39D6-4D95-9168-B763915B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329-1DC5-47B8-953A-7B4C9DED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B35-280C-46D7-8870-9ABEFD4A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312-D389-4412-938D-FA51D597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C1F4-DCD0-4895-B31E-0B6511756CE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23E2-BAD1-44B3-8339-0D1067313AE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6/Cell_membrane_detailed_diagram.svg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1447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Cell Structure and Funct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Ribosom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te For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Protein Synthesi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Enzyme Synthe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ibosomes are made in 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9147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R/Golg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ie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hanne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ternal membran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ranspor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molecules intracellularly (inside the cel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et of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lattened sac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ackag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ransport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molecules in the cytopla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29280" y="1119240"/>
            <a:ext cx="4686120" cy="2614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29280" y="3962520"/>
            <a:ext cx="46098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Centrosome and Centriol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entriole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cylindrical structure used in cell di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ny Centriol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m one centroso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unction of Centrosome/Centromere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used in cell division  Eukary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centrosome"/>
          <p:cNvPicPr/>
          <p:nvPr/>
        </p:nvPicPr>
        <p:blipFill>
          <a:blip r:embed="rId1"/>
          <a:stretch/>
        </p:blipFill>
        <p:spPr>
          <a:xfrm>
            <a:off x="5105520" y="1447920"/>
            <a:ext cx="2895480" cy="213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553080" y="2743200"/>
            <a:ext cx="0" cy="160020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434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2895480"/>
            <a:ext cx="609840" cy="221004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Lysoso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pecial vesicle with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igestive enzym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hat helps break down materials in a ce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15106" r="0" b="0"/>
          <a:stretch/>
        </p:blipFill>
        <p:spPr>
          <a:xfrm>
            <a:off x="990720" y="2666880"/>
            <a:ext cx="5638680" cy="3054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629400" y="41911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91520" y="3124080"/>
            <a:ext cx="45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Vacuole/Cell Wa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19360" y="11426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unctions of the Vacuo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orage for wastes, food and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cuoles take up most of the space in a plant cell but are very small in an animal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od Vacuole</a:t>
            </a:r>
            <a:r>
              <a:rPr b="1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store’s fo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ractile Vacuole</a:t>
            </a:r>
            <a:r>
              <a:rPr b="1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stores wa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unctions of the Cell Wal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found only in Plant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es a plant strength, support and rigid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W is made of Cellul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15556" r="0" b="0"/>
          <a:stretch/>
        </p:blipFill>
        <p:spPr>
          <a:xfrm>
            <a:off x="609480" y="1525680"/>
            <a:ext cx="3338640" cy="4529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V="1">
            <a:off x="3505320" y="3886200"/>
            <a:ext cx="380880" cy="5335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643600">
            <a:off x="3199680" y="3519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666880" y="1447560"/>
            <a:ext cx="762120" cy="144756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990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nimal Ce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324480" cy="5021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2280" y="3505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352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304812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tubules/Centr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0754000">
            <a:off x="6630480" y="1523520"/>
            <a:ext cx="2057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735400">
            <a:off x="5943600" y="12189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876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828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lant Ce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43000" y="1225440"/>
            <a:ext cx="6458040" cy="4778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828800" y="914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762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28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335268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5146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fferences b/w Plant/Animal Cel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981080" y="1523880"/>
          <a:ext cx="4267440" cy="4621320"/>
        </p:xfrm>
        <a:graphic>
          <a:graphicData uri="http://schemas.openxmlformats.org/drawingml/2006/table">
            <a:tbl>
              <a:tblPr/>
              <a:tblGrid>
                <a:gridCol w="2157480"/>
                <a:gridCol w="2109960"/>
              </a:tblGrid>
              <a:tr h="90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t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im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ll Wall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ll Wall not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 Vacu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 Vacu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ome and Lysosomes not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ome and Lysosomes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oplasts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oplasts not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bel the Parts of the Ce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81440" y="990720"/>
            <a:ext cx="5271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The Cell Rap Song 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By Mr Bizzaro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ou can find me in the lab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ith a pen and a p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'm the mad scienti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ut I ain't mad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eckin' out my scop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ookin' at some cells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yin' to teach these ki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bout the organelles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the kids s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"Mr. Biz, what is a cell?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y think it's a phone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 a room at the jai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 I tell ‘em bout the nucle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's acting like a brain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tected by a nuclear membran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e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sic unit of lif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it carries ou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f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Cell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the ribosom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e so small to be see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y make s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verybody in the cell gettin' prote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om the cell membrane to the cell wall (cell wal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's cytoplasm y'all (it's cytoplasm y'al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w things in the cytoplasm are mel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's water, it's gel, it's jelly, it's jel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there's vacuoles all over the pl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oring up the water, food, and was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the kid's s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"Mr. Biz, your rhyme is tight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ou mean the one about the building blocks of l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 never thought I could be a st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just by rapping about the E.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this rhyme's so ho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at it's a powerh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 call me mitochondri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yo, I'm ou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lasma Membra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lasma Membrane is selectively permeable, which means tha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28240" y="380988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lectively Regu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at goes into and out of the cell. It is therefo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lectively Perme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involved i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ges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aking molecules in)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gestion/Excre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moving waste molecules) from th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involved i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nspor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s into and out of th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involved in maintain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9880" y="1014480"/>
            <a:ext cx="434340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73392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sopholipids are made up of Phosphates and Fatty Acid Tail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drophilic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water lov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drophobic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water h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62356" b="0"/>
          <a:stretch/>
        </p:blipFill>
        <p:spPr>
          <a:xfrm>
            <a:off x="1143000" y="1752480"/>
            <a:ext cx="243828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pid Bilay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3546000"/>
            <a:ext cx="822960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ell Membrane is made up to two layers of Phospho-Lipids, therefore it’s called a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hosophlipid Bi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228600" y="1504800"/>
            <a:ext cx="8458200" cy="2076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077320" y="2133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3276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53280" y="213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53280" y="2666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55280" y="24674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572"/>
                </a:solidFill>
                <a:latin typeface="Arial"/>
              </a:rPr>
              <a:t>2 Layers of Lipi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lasma Membra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229600" cy="37864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133720" y="5181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2971800"/>
            <a:ext cx="14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3623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 rot="10800000">
            <a:off x="5714640" y="540972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-912960" y="3275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914400"/>
            <a:ext cx="822960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066680"/>
            <a:ext cx="876312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e PM is made up of Proteins, a Lipid Bilayer, Carbs and Ch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mbedded proteins are receptors, which means that they have a site where another molecule must bind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 wh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s to the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229360" y="2743200"/>
            <a:ext cx="33051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re Complex Picture of the P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Image:Cell membrane detailed diagram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563920"/>
            <a:ext cx="914400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luid Mosaic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urrent model the cell Membrane is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luid Mosaic 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hich states that there are proteins embedded in two layers of 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ntire model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ui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23880" y="3271680"/>
            <a:ext cx="632484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rganel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Tiny structures in cells that perform specialized cellular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ell membra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the outer covering that protects the cell and surrounds the cytopla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ytoplas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the jellylike fluid inside the ce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86400" y="2444760"/>
            <a:ext cx="3200400" cy="2214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7543440" y="20574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1676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1905120"/>
            <a:ext cx="75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1523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001000" y="27432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15238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1600200"/>
            <a:ext cx="1752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24680" y="2362320"/>
            <a:ext cx="12193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ucle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s all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ll’s activ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t controls what is going on in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rom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hol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is the site for Mitos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Cell Divisio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is aka genetic material or hereditary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715000" cy="3002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343400" y="3048120"/>
            <a:ext cx="18288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0002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27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d627ff"/>
                </a:solidFill>
                <a:latin typeface="Arial"/>
              </a:rPr>
              <a:t>Nucleo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romoso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umans have 46 Chromosomes total Chromosomes in the Nucleus of every cell (except egg and sperm which have 23 Chromosom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Cells have 23 Pairs of Chromoso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w a Chromosome with its Centrome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st amount of genetic material to smallest amount of genetic materi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romosome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ucleol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cat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nside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ib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624852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itochondr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ite for C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lular Respi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P is produced for all Cells and their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lie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power for the c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werhous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765680" cy="487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3200400" y="2209320"/>
            <a:ext cx="30492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137160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TP is an Energy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Chloroplast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3810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te for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hotosynthe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nd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lant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not Animal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hrolorphy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the green pigment used in photo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tro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the space inside the chloropl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ra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re the dark green bund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7658"/>
          <a:stretch/>
        </p:blipFill>
        <p:spPr>
          <a:xfrm>
            <a:off x="4038480" y="1676520"/>
            <a:ext cx="5105520" cy="4179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91120" y="1447920"/>
            <a:ext cx="40384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594360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12f"/>
                </a:solidFill>
                <a:latin typeface="Arial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841400">
            <a:off x="5181480" y="837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Contains the Most Chlorophy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29200" y="1676520"/>
            <a:ext cx="533520" cy="304560"/>
          </a:xfrm>
          <a:prstGeom prst="line">
            <a:avLst/>
          </a:prstGeom>
          <a:ln w="85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mmaries For Photosynthe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60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hotosynthesis is Autotrophic Nutri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nergy is converted into Chemical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2 + H2O + Sunligh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lucose + 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rganic Nutrients are converted into Organic Nutrients in the presence of 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3276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00"/>
                </a:solidFill>
                <a:latin typeface="Arial"/>
              </a:rPr>
              <a:t>(Inorganic Mater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324468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00"/>
                </a:solidFill>
                <a:latin typeface="Arial"/>
              </a:rPr>
              <a:t>(Organic Mate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34:16Z</dcterms:created>
  <dc:creator>Ela Skrabak</dc:creator>
  <dc:description/>
  <dc:language>en-US</dc:language>
  <cp:lastModifiedBy>Ela Skrabak</cp:lastModifiedBy>
  <dcterms:modified xsi:type="dcterms:W3CDTF">2008-12-08T19:22:33Z</dcterms:modified>
  <cp:revision>78</cp:revision>
  <dc:subject/>
  <dc:title>Slide 1</dc:title>
</cp:coreProperties>
</file>